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AB7C-14AF-4CF8-8F15-CF74CFF4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529B-6281-4258-A07D-B13D84DB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EE86-D144-4197-82DD-35236A1C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5511-7AE9-4E07-9FCF-F650B40F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4CC8-0746-4111-9926-723336F4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2B60-9919-4DD7-BE10-BC828927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4FB1-0139-4C4E-9C3E-D7280DF0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2A1E-8ADB-402B-AE25-A68D3334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ADCC-E8BA-43D2-8327-F2DE61D9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73FD-E5A4-4C87-8A26-082A4BE9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833F-84C0-4EF1-9747-9167177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737C-D8FD-4CCA-BD38-9235BD75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6F47-36BF-491D-8C32-DD60771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E321-9C6E-4707-A2BF-4835B49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2DAF-32ED-4253-9528-0F9AF47D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8DCA-D23E-43FD-842C-2268BBF2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B94-0721-4F49-B420-47CEA135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7EC8-F352-4672-A31C-143283C1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F410-4A9F-4B3B-9620-949E9A6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94E2-F5B3-4083-B9D9-7050E0FF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E92D-B5B1-496C-8FD1-E07CAD9C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15BC-9ABD-4CEE-A456-98E44F63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629D-C8C5-4B1F-9E0E-E3D72DF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5E1D-8450-49AF-ABC7-53324918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5E5E-E625-42AD-A6F3-E0063C3BAF0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AEF-C56C-4E81-BBC6-85EF67EEDAB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8751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7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09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ъбота блажена, о, святи покой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и си славен спомен от едемски рай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О, как те обичам, ден на мир, святост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ащото донасяш небесна радост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857520"/>
            <a:ext cx="9325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, о, Създателю м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е Теб за тоз ден на свят пок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444240"/>
            <a:ext cx="9144000" cy="48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Ела, влез в сърце ми, о, святи ми Гост!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апомняш ми скромно за райска хубост!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ъбуждаш надежда за вечен живот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що Бог обещал е за Своя народ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714960"/>
            <a:ext cx="9325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, о, Създателю м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е Теб за тоз ден на свят пок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63080"/>
            <a:ext cx="93250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еб благодаря, о, любезни ми Спас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деня на почивка със радостен глас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че за мен Си седмий ден благословил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а спомен навеки Си го осветил!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643320"/>
            <a:ext cx="9325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, о, Създателю м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е Теб за тоз ден на свят пок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181080" y="306000"/>
            <a:ext cx="93250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ега кат живеем в световния край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иготви ни, Боже, за небесния рай!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Там Тебе да хвалим с ханаански език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оменени славно в небесния лик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181080" y="500400"/>
            <a:ext cx="9325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, о, Създателю м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е Теб за тоз ден на свят пок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0T06:42:46Z</dcterms:modified>
  <cp:revision>19</cp:revision>
  <dc:subject/>
  <dc:title>Slide 1</dc:title>
</cp:coreProperties>
</file>